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0620-CC2C-4EAF-A214-6ACB02EBE6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hape 4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1E10-5495-4A94-80D0-14CA00292A2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4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682880"/>
            <a:ext cx="50292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Straight Connector 1074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1077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Box 1081"/>
          <p:cNvSpPr/>
          <p:nvPr/>
        </p:nvSpPr>
        <p:spPr>
          <a:xfrm>
            <a:off x="7034760" y="6324480"/>
            <a:ext cx="17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lie: </a:t>
            </a:r>
            <a:fld id="{5C5927E5-B402-4768-BE82-8C3D645EB7D2}" type="slidenum">
              <a:rPr b="0" lang="de-DE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Box 1087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Rectangle 1088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90"/>
          <p:cNvSpPr/>
          <p:nvPr/>
        </p:nvSpPr>
        <p:spPr>
          <a:xfrm>
            <a:off x="304920" y="63241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Straight Connector 2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3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430720" y="624852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Events · Solutions · Pub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Rectangle 6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7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80010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# 2.0 –Die Erweiterungen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oftware &amp; Consult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C++ MVP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sche Klass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ische Typ-Deklarationen können beliebig viele Typ-Parameter enthal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Box 182275"/>
          <p:cNvSpPr/>
          <p:nvPr/>
        </p:nvSpPr>
        <p:spPr>
          <a:xfrm>
            <a:off x="901800" y="3048120"/>
            <a:ext cx="73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blic class Directory&lt;K,V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blic void Add(K key, V value) 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blic V this[K key] 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//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Directory&lt;string,Customer&gt; dict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new Directory&lt;string,Customer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dict.Add(„Bernd“, new Customer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Customer c = dict[„Peter“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inschränkung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358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Einschränkungen (oder Constraints) definieren für die Typ-Parameter bestimmte Einschränkungen (Interfaces,</a:t>
            </a:r>
            <a:r>
              <a:rPr b="1" lang="de-DE" sz="2200" spc="-1" strike="noStrike">
                <a:solidFill>
                  <a:srgbClr val="cc0008"/>
                </a:solidFill>
                <a:latin typeface="Lucida Console"/>
              </a:rPr>
              <a:t> </a:t>
            </a:r>
            <a:r>
              <a:rPr b="0" lang="de-DE" sz="2200" spc="-1" strike="noStrike">
                <a:solidFill>
                  <a:srgbClr val="000066"/>
                </a:solidFill>
                <a:latin typeface="Lucida Console"/>
              </a:rPr>
              <a:t>struct,</a:t>
            </a:r>
            <a:r>
              <a:rPr b="1" lang="de-DE" sz="2200" spc="-1" strike="noStrike">
                <a:solidFill>
                  <a:srgbClr val="000066"/>
                </a:solidFill>
                <a:latin typeface="Lucida Console"/>
              </a:rPr>
              <a:t> </a:t>
            </a:r>
            <a:r>
              <a:rPr b="0" lang="de-DE" sz="2200" spc="-1" strike="noStrike">
                <a:solidFill>
                  <a:srgbClr val="000066"/>
                </a:solidFill>
                <a:latin typeface="Lucida Console"/>
              </a:rPr>
              <a:t>class, new()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ür einen Typ-Parameter solle die Methode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CompareTo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benutz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nn muss der Typ-Parameter diese Methode (über die Schnittstelle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Comparabl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) implementier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es wird mit folgender Einschränkung sichergestellt (zur Übersetzungszeit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84323"/>
          <p:cNvSpPr/>
          <p:nvPr/>
        </p:nvSpPr>
        <p:spPr>
          <a:xfrm>
            <a:off x="973080" y="4797360"/>
            <a:ext cx="749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blic class Directory&lt;K,V&gt; where K: ICompa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Demo 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nutzung der Einschränkung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Comparabl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im generischen Typ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Director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nutzung von Klassen, welche die Schnittstelle implementieren (z.B.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string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nutzung von eigenen Klassen, welche die Schnittstelle implementieren (Klasse: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TestComp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Benutzung von Klassen, welche die Schnittstelle nicht implementieren wird zur Übersetzungszeit zurückgewiesen (Klasse: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Test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inweis: Es können mehrere Einschränkungen angegeben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sche Method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 Methodenaufrufen können generische Typen als Parameter verwendet wer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an nennt diese Methoden: generische Metho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ispiel 1: Funktioniert nur mit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Stack&lt;int&gt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186371"/>
          <p:cNvSpPr/>
          <p:nvPr/>
        </p:nvSpPr>
        <p:spPr>
          <a:xfrm>
            <a:off x="274680" y="2781360"/>
            <a:ext cx="8867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void PushMultiple(Stack&lt;int&gt; stack, params int []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foreach(int i in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.Push(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//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 &lt;int&gt; stack = new Stack&lt;int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shMultiple(stack, 1, 2, 3, 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sche Method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mit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shMultiple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mit allen Typen funktioniert, muss eine generische Methode implementier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ispiel 2: Funktioniert imm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187395"/>
          <p:cNvSpPr/>
          <p:nvPr/>
        </p:nvSpPr>
        <p:spPr>
          <a:xfrm>
            <a:off x="426960" y="2708280"/>
            <a:ext cx="871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void PushMultiple&lt;T&gt;(Stack&lt;T&gt; stack, params T []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foreach(T val in valu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.Push(val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//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int&gt; stack = new Stack&lt;int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ushMultiple&lt;int&gt;(stack, 1, 2, 3, 4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cs im Framework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mensraum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ystem.Collections.Generic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rtedDictio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arum generische Typen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ypsicherhei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ompilerfehl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ode besser les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ein Boxing und Unboxing der Werte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mo: Performance-T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andard-Colle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enerischer Typ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526716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terato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isher waren die Implementierung von Enumeratoren nicht so einfach (Positionierung!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teratoren ermöglichen jetzt eine ganz einfache Implementierung der Methode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GetEnumerator(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terface implementieren: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Enumera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durch kann man mit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foreach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sehr leicht durch die Collection iteriere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Verdana"/>
              </a:rPr>
              <a:t>Rückgabe der Datenwerte mit </a:t>
            </a:r>
            <a:r>
              <a:rPr b="1" lang="de-DE" sz="1900" spc="-1" strike="noStrike">
                <a:solidFill>
                  <a:srgbClr val="000066"/>
                </a:solidFill>
                <a:latin typeface="Courier New"/>
              </a:rPr>
              <a:t>yield</a:t>
            </a:r>
            <a:r>
              <a:rPr b="1" lang="de-DE" sz="19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de-DE" sz="1900" spc="-1" strike="noStrike">
                <a:solidFill>
                  <a:srgbClr val="000066"/>
                </a:solidFill>
                <a:latin typeface="Courier New"/>
              </a:rPr>
              <a:t>return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ibt den Datenwert zurück und unterbricht die Schlei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Verdana"/>
              </a:rPr>
              <a:t>Beendigung (wenn nötig) mit </a:t>
            </a:r>
            <a:r>
              <a:rPr b="1" lang="de-DE" sz="1900" spc="-1" strike="noStrike">
                <a:solidFill>
                  <a:srgbClr val="000066"/>
                </a:solidFill>
                <a:latin typeface="Courier New"/>
              </a:rPr>
              <a:t>yield</a:t>
            </a:r>
            <a:r>
              <a:rPr b="1" lang="de-DE" sz="19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de-DE" sz="1900" spc="-1" strike="noStrike">
                <a:solidFill>
                  <a:srgbClr val="000066"/>
                </a:solidFill>
                <a:latin typeface="Courier New"/>
              </a:rPr>
              <a:t>break</a:t>
            </a:r>
            <a:r>
              <a:rPr b="1" lang="de-DE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GetEnumerable()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kann „generisch“ implementier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Demo 3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1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weiterung des generischen Typs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ck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mit der Methode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GetEnumerable(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ier: Generische Implementierung für den jeweiligen Typ des Stac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ung einer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oreach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-Schleife, um den gesamten Stack auszuge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artielle Klass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lassen können auf mehrere Dateien verteil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t in großen Projekten mit mehreren Entwicklern sehr angeneh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Entwickler kann den Code sinnvoll auftei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zard-erzeugter C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n Hand-erzeugter C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chlüsselwort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artial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wird benutz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Compiler fügt im Prinzip alle Dateien einer Klasse mit dem Schüsselwort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partial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zusam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tellisense funktioniert trotzde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8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euerungen in C# 2.0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Generische Datentyp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rogrammier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nwend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sche Klassen in .NE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terato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artielle K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mpatibilität zu C# 1.0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Kompatibilität zu C# 1.0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Neuerungen in C# 2.0 brechen nicht die Kompatibilität zur Version 1.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ter Code sollte also ohne Änderungen übernommen werden kön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Neuerungen der Version 2.0 können nach und nach benutzt werden, um den existierenden Code zu vereinfac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n muss aber nicht sofort umstellen (z.B. auf generische Typen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lich gibt es generische Typ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ch die anderen Erweiterungen sind nütz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iel Vereinfachungen in der Programmier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ompatibilität zu C# 1.0 ist gege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ier und da können Warnungen kom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önnen aber schnell behoben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#-Kompatiblität nicht mit Runtime-Kompatibilität verwechseln!!!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171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agen und Antwo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Neuerungen in C# 2.0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# ist gegenüber der alten Version erweitert wo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e Programmiersprache als solches hat sich aber nicht geände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r müssen nicht umler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ir müssen nur dazuler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rößtes Feature in C# 2.0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Generische Typ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ür die Template-Anhänger der C++-Gemeinde ein wichtiger Punk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ür VB.NET, C#, C++/CL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enerische Datentyp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enerische Typen machen es möglich, dass Klassen, Strukturen, Interfaces, Delegates und Methoden passend zum Typ der Daten, die sie verwalten sollen, erzeugt werden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faches Beispiel: Sortier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an kann </a:t>
            </a:r>
            <a:r>
              <a:rPr b="1" lang="de-DE" sz="1800" spc="-1" strike="noStrike">
                <a:solidFill>
                  <a:srgbClr val="000066"/>
                </a:solidFill>
                <a:latin typeface="Lucida Console"/>
              </a:rPr>
              <a:t>int, string, double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, ... sortie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it generischen Typen schreibt man nur eine Sortierungs-Metho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se kann dann mit den unterschiedlichen Typen „angewendet“ wer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arum braucht man generische Typen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e Standard-Collection-Klassen speichern die Daten immer als </a:t>
            </a:r>
            <a:r>
              <a:rPr b="1" lang="de-DE" sz="1800" spc="-1" strike="noStrike">
                <a:solidFill>
                  <a:srgbClr val="000066"/>
                </a:solidFill>
                <a:latin typeface="Lucida Console"/>
              </a:rPr>
              <a:t>objec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im Auslesen der Daten muss explizit gecastet wer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 können Fehler passier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evtl. erst zur Laufze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stet Performance (Boxing, Unboxing, Typprüfu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ispiel: Stack-Colle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76131"/>
          <p:cNvSpPr/>
          <p:nvPr/>
        </p:nvSpPr>
        <p:spPr>
          <a:xfrm>
            <a:off x="992880" y="400536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ck stack = new Stack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ck.Push(3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ck.Push(„Hallo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 = (int)stack.Pop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rogrammier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rstellung einer Klasse mit einem sogenannten „Typenparameter“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Wird in spitzen Klammern angegebe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Wird wie ein normaler Typ benutz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ispiel: Stack-Klas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77155"/>
          <p:cNvSpPr/>
          <p:nvPr/>
        </p:nvSpPr>
        <p:spPr>
          <a:xfrm>
            <a:off x="823320" y="3068640"/>
            <a:ext cx="658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blic class Stack&lt;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[] i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co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blic void Push(T item) 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blic T Pop() 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1008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nwend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nn die generische Klasse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Stack&lt;T&gt;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 benutzt werden soll, dann wird </a:t>
            </a:r>
            <a:r>
              <a:rPr b="1" lang="de-DE" sz="1800" spc="-1" strike="noStrike">
                <a:solidFill>
                  <a:srgbClr val="000066"/>
                </a:solidFill>
                <a:latin typeface="Courier New"/>
              </a:rPr>
              <a:t>&lt;T&gt;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 überall durch den gewünschten Typ ersetz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Es handelt sich aber nicht einfach um eine Textersetz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Die neue Klasse heißt „konstruierter Typ“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Für jeden anderen Typ wird der Code neu „expandiert“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ispiel: Mit Stack-Klass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178179"/>
          <p:cNvSpPr/>
          <p:nvPr/>
        </p:nvSpPr>
        <p:spPr>
          <a:xfrm>
            <a:off x="685800" y="3573360"/>
            <a:ext cx="56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int&gt; stack = new Stack&lt;int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.Push(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nt i = stack.Pop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78180"/>
          <p:cNvSpPr/>
          <p:nvPr/>
        </p:nvSpPr>
        <p:spPr>
          <a:xfrm>
            <a:off x="3919320" y="4653000"/>
            <a:ext cx="5118480" cy="2014200"/>
          </a:xfrm>
          <a:prstGeom prst="rect">
            <a:avLst/>
          </a:prstGeom>
          <a:gradFill rotWithShape="0">
            <a:gsLst>
              <a:gs pos="0">
                <a:srgbClr val="9ce157"/>
              </a:gs>
              <a:gs pos="100000">
                <a:srgbClr val="77ac43"/>
              </a:gs>
            </a:gsLst>
            <a:lin ang="5400000"/>
          </a:gradFill>
          <a:ln w="9360">
            <a:solidFill>
              <a:srgbClr val="ffffff"/>
            </a:solidFill>
            <a:prstDash val="sysDot"/>
            <a:miter/>
          </a:ln>
          <a:effectLst>
            <a:outerShdw dist="107932" dir="2700000" blurRad="0" rotWithShape="0">
              <a:srgbClr val="0000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public class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int[] i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int cou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public void Push(int item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public int Pop(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44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traight Connector 178181"/>
          <p:cNvSpPr/>
          <p:nvPr/>
        </p:nvSpPr>
        <p:spPr>
          <a:xfrm>
            <a:off x="2700360" y="566100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traight Connector 178182"/>
          <p:cNvSpPr/>
          <p:nvPr/>
        </p:nvSpPr>
        <p:spPr>
          <a:xfrm flipV="1">
            <a:off x="2700360" y="4941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nwendun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konstruierte Typ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int&gt;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hat den festen Typ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de-DE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e Daten werden im konstruierten Typ tatsächlich als </a:t>
            </a: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gespeiche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yp-Umwandlungen sind deshalb nicht mehr erforder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achteil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s wird mehr Code (im Speicher) erzeugt, wenn der generische Typ mehrfach expandiert wir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179203"/>
          <p:cNvSpPr/>
          <p:nvPr/>
        </p:nvSpPr>
        <p:spPr>
          <a:xfrm>
            <a:off x="826920" y="4724280"/>
            <a:ext cx="704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string&gt; sts = new Stack&lt;string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double&gt; std = new Stack&lt;double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Courier New"/>
              </a:rPr>
              <a:t>Stack&lt;DateTime&gt; stdt = new Stack&lt;DateTime&gt;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Demo 1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grammierung einer Stack-Klasse als generischer Ty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sh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- und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op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-Methode implemetie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ache Variante mit festem Array ohne Prüfung der Indic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wend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L-Co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2:10:30Z</dcterms:created>
  <dc:creator>DATACOM</dc:creator>
  <dc:description/>
  <dc:language>en-US</dc:language>
  <cp:lastModifiedBy>Bernd Marquardt</cp:lastModifiedBy>
  <dcterms:modified xsi:type="dcterms:W3CDTF">2006-05-29T14:25:59Z</dcterms:modified>
  <cp:revision>79</cp:revision>
  <dc:subject/>
  <dc:title>Neue Wege in der Telekommunikation</dc:title>
</cp:coreProperties>
</file>